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13.wmf" ContentType="image/x-wmf"/>
  <Override PartName="/ppt/media/image9.png" ContentType="image/png"/>
  <Override PartName="/ppt/media/image17.wmf" ContentType="image/x-wmf"/>
  <Override PartName="/ppt/media/image19.png" ContentType="image/png"/>
  <Override PartName="/ppt/media/image1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2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0060-053F-4C0B-8D7F-660F3AF75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BC8A-56FF-45F2-B2FB-7B7C76C89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3B8C-0F48-42D2-B186-AB0D4A47B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AA17-8198-4A73-AB39-3FCFF7975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3189C-CB99-47AD-9BDC-B61A05379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CD1A8-D54E-4BBE-8E01-D2B8CB29C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93AEE-B2BC-40EE-8CEB-A65A1877E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0D3C4-F5AF-4EF0-A756-13333EE1C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C4B39-C2AA-42D6-A133-57CF00926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1B7E8-DBFE-40A9-BECB-8CBDE5426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273E2-8FA6-4C9D-BB54-81CBC676A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3CF4-9F85-4FC6-A494-3B6F91A26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C14EB-C326-4927-833B-F2F588B2C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0DD74-BBF1-4679-97CB-A6D69BAD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A6D90-4CC3-4B7F-90D0-14C3A171F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3046C-4DE3-4446-8168-5D61343A5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0F4D2-8F2B-49B5-BAB9-1A380C2DD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46FB-FD70-4750-9B39-6FB70FDCC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1DAA-37BC-4DAE-A92A-FBEBA151E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053A-D9AD-47BC-9A55-F44A2A2E8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B6EC-0D1A-4E15-96F6-9051CE13E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AD18-CEF6-44FD-9F39-A3B938181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77A2-27D9-431D-B42D-745B00A4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6BBF-97CF-4DB1-9AF4-75ED60999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A5A51-CE9F-4FB3-8116-05EED32637C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663DD-6428-42EE-A659-595DB324BA0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" Target="slide9.xml"/><Relationship Id="rId5" Type="http://schemas.openxmlformats.org/officeDocument/2006/relationships/image" Target="../media/image4.png"/><Relationship Id="rId6" Type="http://schemas.openxmlformats.org/officeDocument/2006/relationships/slide" Target="slide11.xml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" Target="slide10.xml"/><Relationship Id="rId5" Type="http://schemas.openxmlformats.org/officeDocument/2006/relationships/image" Target="../media/image4.png"/><Relationship Id="rId6" Type="http://schemas.openxmlformats.org/officeDocument/2006/relationships/slide" Target="slide12.xml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" Target="slide1.xml"/><Relationship Id="rId4" Type="http://schemas.openxmlformats.org/officeDocument/2006/relationships/image" Target="../media/image18.png"/><Relationship Id="rId5" Type="http://schemas.openxmlformats.org/officeDocument/2006/relationships/slide" Target="slide1.xml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" Target="slide18.xml"/><Relationship Id="rId5" Type="http://schemas.openxmlformats.org/officeDocument/2006/relationships/image" Target="../media/image3.png"/><Relationship Id="rId6" Type="http://schemas.openxmlformats.org/officeDocument/2006/relationships/slide" Target="slide1.xml"/><Relationship Id="rId7" Type="http://schemas.openxmlformats.org/officeDocument/2006/relationships/image" Target="../media/image18.png"/><Relationship Id="rId8" Type="http://schemas.openxmlformats.org/officeDocument/2006/relationships/slide" Target="slide1.xml"/><Relationship Id="rId9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3.png"/><Relationship Id="rId3" Type="http://schemas.openxmlformats.org/officeDocument/2006/relationships/slide" Target="slide17.xml"/><Relationship Id="rId4" Type="http://schemas.openxmlformats.org/officeDocument/2006/relationships/image" Target="../media/image4.png"/><Relationship Id="rId5" Type="http://schemas.openxmlformats.org/officeDocument/2006/relationships/slide" Target="slide1.xml"/><Relationship Id="rId6" Type="http://schemas.openxmlformats.org/officeDocument/2006/relationships/image" Target="../media/image18.png"/><Relationship Id="rId7" Type="http://schemas.openxmlformats.org/officeDocument/2006/relationships/slide" Target="slide1.xml"/><Relationship Id="rId8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" Target="slide20.xml"/><Relationship Id="rId3" Type="http://schemas.openxmlformats.org/officeDocument/2006/relationships/image" Target="../media/image3.png"/><Relationship Id="rId4" Type="http://schemas.openxmlformats.org/officeDocument/2006/relationships/slide" Target="slide18.xml"/><Relationship Id="rId5" Type="http://schemas.openxmlformats.org/officeDocument/2006/relationships/image" Target="../media/image4.png"/><Relationship Id="rId6" Type="http://schemas.openxmlformats.org/officeDocument/2006/relationships/slide" Target="slide1.xml"/><Relationship Id="rId7" Type="http://schemas.openxmlformats.org/officeDocument/2006/relationships/image" Target="../media/image18.png"/><Relationship Id="rId8" Type="http://schemas.openxmlformats.org/officeDocument/2006/relationships/slide" Target="slide1.xml"/><Relationship Id="rId9" Type="http://schemas.openxmlformats.org/officeDocument/2006/relationships/slideLayout" Target="../slideLayouts/slideLayout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" Target="slide19.xml"/><Relationship Id="rId4" Type="http://schemas.openxmlformats.org/officeDocument/2006/relationships/image" Target="../media/image4.png"/><Relationship Id="rId5" Type="http://schemas.openxmlformats.org/officeDocument/2006/relationships/slide" Target="slide1.xml"/><Relationship Id="rId6" Type="http://schemas.openxmlformats.org/officeDocument/2006/relationships/image" Target="../media/image18.png"/><Relationship Id="rId7" Type="http://schemas.openxmlformats.org/officeDocument/2006/relationships/slide" Target="slide1.xml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2.xml"/><Relationship Id="rId3" Type="http://schemas.openxmlformats.org/officeDocument/2006/relationships/image" Target="../media/image3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" Target="slide21.xml"/><Relationship Id="rId8" Type="http://schemas.openxmlformats.org/officeDocument/2006/relationships/image" Target="../media/image4.png"/><Relationship Id="rId9" Type="http://schemas.openxmlformats.org/officeDocument/2006/relationships/slide" Target="slide23.xml"/><Relationship Id="rId10" Type="http://schemas.openxmlformats.org/officeDocument/2006/relationships/image" Target="../media/image3.png"/><Relationship Id="rId11" Type="http://schemas.openxmlformats.org/officeDocument/2006/relationships/slide" Target="slide1.xml"/><Relationship Id="rId12" Type="http://schemas.openxmlformats.org/officeDocument/2006/relationships/image" Target="../media/image18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" Target="slide22.xml"/><Relationship Id="rId5" Type="http://schemas.openxmlformats.org/officeDocument/2006/relationships/image" Target="../media/image4.png"/><Relationship Id="rId6" Type="http://schemas.openxmlformats.org/officeDocument/2006/relationships/slide" Target="slide24.xml"/><Relationship Id="rId7" Type="http://schemas.openxmlformats.org/officeDocument/2006/relationships/image" Target="../media/image3.png"/><Relationship Id="rId8" Type="http://schemas.openxmlformats.org/officeDocument/2006/relationships/image" Target="../media/image18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" Target="slide23.xml"/><Relationship Id="rId5" Type="http://schemas.openxmlformats.org/officeDocument/2006/relationships/image" Target="../media/image4.png"/><Relationship Id="rId6" Type="http://schemas.openxmlformats.org/officeDocument/2006/relationships/slide" Target="slide17.xml"/><Relationship Id="rId7" Type="http://schemas.openxmlformats.org/officeDocument/2006/relationships/image" Target="../media/image3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.png"/><Relationship Id="rId3" Type="http://schemas.openxmlformats.org/officeDocument/2006/relationships/slide" Target="slide2.xml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3.png"/><Relationship Id="rId3" Type="http://schemas.openxmlformats.org/officeDocument/2006/relationships/slide" Target="slide3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3.png"/><Relationship Id="rId3" Type="http://schemas.openxmlformats.org/officeDocument/2006/relationships/slide" Target="slide4.xml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8.xml"/><Relationship Id="rId3" Type="http://schemas.openxmlformats.org/officeDocument/2006/relationships/image" Target="../media/image3.png"/><Relationship Id="rId4" Type="http://schemas.openxmlformats.org/officeDocument/2006/relationships/slide" Target="slide6.xm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4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" Target="slide8.xml"/><Relationship Id="rId8" Type="http://schemas.openxmlformats.org/officeDocument/2006/relationships/image" Target="../media/image4.png"/><Relationship Id="rId9" Type="http://schemas.openxmlformats.org/officeDocument/2006/relationships/slide" Target="slide10.xml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Архитектура компьютер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hlinkClick r:id="rId2" action="ppaction://hlinksldjump"/>
              </a:rPr>
              <a:t>Слайд-шо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Главные страниц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новная структура П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труктура системного бло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агистрально-модульное устройство П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цессо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атеринская(системная) пла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стройства долговременной памяти (ПЗУ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стройства ввода информ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стройства вывода информ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етевые устройст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7867800" y="4917960"/>
            <a:ext cx="114120" cy="1144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9029880" y="6743880"/>
            <a:ext cx="114120" cy="11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Устройства вывода информации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Arial"/>
              </a:rPr>
              <a:t>Монитор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устройство для вывода текстовой, числовой и графической информ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Arial"/>
              </a:rPr>
              <a:t>Принтер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устройство для вывода на бумагу текстовой, числовой и графической информ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Arial"/>
              </a:rPr>
              <a:t>Акустические колонки и наушник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устройства для вывода зву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</p:spTree>
  </p:cSld>
  <p:transition spd="slow" advTm="17000">
    <p:wheel spokes="8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3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3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3500"/>
                            </p:stCondLst>
                            <p:childTnLst>
                              <p:par>
                                <p:cTn id="2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3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6500"/>
                            </p:stCondLst>
                            <p:childTnLst>
                              <p:par>
                                <p:cTn id="2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3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Сетевые устройства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Сетевой адаптер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устройство для передачи и приёма информации по се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Моде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устройство для передачи, модуляции и демодуляции информ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Витая пар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устройство для соединения компьютеров в Л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wheel spokes="8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3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3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3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3500"/>
                            </p:stCondLst>
                            <p:childTnLst>
                              <p:par>
                                <p:cTn id="27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3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3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3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6500"/>
                            </p:stCondLst>
                            <p:childTnLst>
                              <p:par>
                                <p:cTn id="28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3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3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3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403280" y="189000"/>
            <a:ext cx="6531120" cy="66690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2205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00ff"/>
                </a:solidFill>
                <a:latin typeface="Arial"/>
              </a:rPr>
              <a:t>Ну вот и познакомились!!!</a:t>
            </a:r>
            <a:endParaRPr b="0" lang="en-US" sz="72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3745080" cy="36972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3924360" y="2997360"/>
            <a:ext cx="482436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THE END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 advTm="3000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26920" y="1413000"/>
            <a:ext cx="76107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езентацию выполнил :</a:t>
            </a:r>
            <a:endParaRPr b="0" i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050920" y="3068640"/>
            <a:ext cx="491328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ражкин А. В.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3000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95280" y="333360"/>
            <a:ext cx="446400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Слайд-шо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835280" y="2060640"/>
            <a:ext cx="482580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разработано  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411280" y="3933720"/>
            <a:ext cx="6607440" cy="246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Microsoft  PowerPoint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3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284720" y="3554280"/>
            <a:ext cx="4572000" cy="33037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>
            <a:off x="755640" y="620640"/>
            <a:ext cx="7704000" cy="2881440"/>
          </a:xfrm>
          <a:prstGeom prst="rect">
            <a:avLst/>
          </a:prstGeom>
        </p:spPr>
        <p:txBody>
          <a:bodyPr wrap="none" lIns="90000" rIns="90000" tIns="46800" bIns="46800" anchor="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 п а с и б о  з а  п р о с м о т р  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395280" y="6381720"/>
            <a:ext cx="504720" cy="3729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79280" y="6643800"/>
            <a:ext cx="945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Смотреть снова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403280" y="638172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160" name="">
            <a:hlinkClick r:id="rId5" action="ppaction://hlinksldjump"/>
          </p:cNvPr>
          <p:cNvSpPr/>
          <p:nvPr/>
        </p:nvSpPr>
        <p:spPr>
          <a:xfrm>
            <a:off x="1044360" y="6643800"/>
            <a:ext cx="89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Главное меню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Основная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структура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ПК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Системный бл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Монит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Клавиату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Мыш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Колонки, наушн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Принт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Скан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4788000" y="2852640"/>
            <a:ext cx="4176720" cy="38340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403280" y="638172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167" name="">
            <a:hlinkClick r:id="rId8" action="ppaction://hlinksldjump"/>
          </p:cNvPr>
          <p:cNvSpPr/>
          <p:nvPr/>
        </p:nvSpPr>
        <p:spPr>
          <a:xfrm>
            <a:off x="1044360" y="6643800"/>
            <a:ext cx="89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Главное меню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4211640" y="2349360"/>
            <a:ext cx="4257720" cy="3629160"/>
            <a:chOff x="4211640" y="2349360"/>
            <a:chExt cx="4257720" cy="3629160"/>
          </a:xfrm>
        </p:grpSpPr>
        <p:sp>
          <p:nvSpPr>
            <p:cNvPr id="169" name="Gear"/>
            <p:cNvSpPr/>
            <p:nvPr/>
          </p:nvSpPr>
          <p:spPr>
            <a:xfrm>
              <a:off x="6572160" y="2349360"/>
              <a:ext cx="1897200" cy="16639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211640" y="3035160"/>
              <a:ext cx="2268360" cy="19893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682960" y="3768840"/>
              <a:ext cx="2521080" cy="22096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9528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Структура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системного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блока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Процессо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Материнская пла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Оперативная память (ОЗУ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инчестер (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HDD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идеока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Звуковая ка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Блок пит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Дисковод 3,5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”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FDD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Дисковод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CD/DVD-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Сетевая ка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нутренний мод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403280" y="638172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177" name="">
            <a:hlinkClick r:id="rId7" action="ppaction://hlinksldjump"/>
          </p:cNvPr>
          <p:cNvSpPr/>
          <p:nvPr/>
        </p:nvSpPr>
        <p:spPr>
          <a:xfrm>
            <a:off x="1044360" y="6643800"/>
            <a:ext cx="89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Главное меню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Магистрально-модульное устройство ПК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332000" y="836640"/>
            <a:ext cx="6551640" cy="296388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</a:rPr>
              <a:t>Шина данных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шина для передачи данных между различными устройств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</a:rPr>
              <a:t>Шина адрес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шина для выбора устройства или ячейки памяти, куда пересылаются или откуда считываются данные по шине данны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</a:rPr>
              <a:t>Шина управления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шина для передачи сигналов, определяющих характер обмена информацией по магистрал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403280" y="638172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184" name="">
            <a:hlinkClick r:id="rId8" action="ppaction://hlinksldjump"/>
          </p:cNvPr>
          <p:cNvSpPr/>
          <p:nvPr/>
        </p:nvSpPr>
        <p:spPr>
          <a:xfrm>
            <a:off x="1044360" y="6643800"/>
            <a:ext cx="89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Главное меню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2421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ff"/>
                </a:solidFill>
                <a:latin typeface="Arial"/>
              </a:rPr>
              <a:t>Архитектура</a:t>
            </a:r>
            <a:br>
              <a:rPr sz="9600"/>
            </a:br>
            <a:r>
              <a:rPr b="0" lang="en-US" sz="9600" spc="-1" strike="noStrike">
                <a:solidFill>
                  <a:srgbClr val="0000ff"/>
                </a:solidFill>
                <a:latin typeface="Arial"/>
              </a:rPr>
              <a:t>компьютера</a:t>
            </a:r>
            <a:endParaRPr b="0" lang="en-US" sz="96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advTm="5000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Процессор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523800" indent="-5238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ff"/>
                </a:solidFill>
                <a:latin typeface="Arial"/>
              </a:rPr>
              <a:t>Процессор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– устройство, выполняющее обработку данных и управляющее П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Основные характеристики процессор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00"/>
                </a:solidFill>
                <a:uFillTx/>
                <a:latin typeface="Arial"/>
              </a:rPr>
              <a:t>Тактовая частот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количество тактов в секунд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cc00"/>
                </a:solidFill>
                <a:uFillTx/>
                <a:latin typeface="Arial"/>
              </a:rPr>
              <a:t>Разрядност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количество двоичных разрядов, которые могут передаваться или обрабатываться процессором одновременн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00"/>
                </a:solidFill>
                <a:uFillTx/>
                <a:latin typeface="Arial"/>
              </a:rPr>
              <a:t>Производительност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скорость выполнения определённых операций в какой-либо программной сред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24000" y="4149720"/>
            <a:ext cx="8496000" cy="21049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403280" y="638172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191" name="">
            <a:hlinkClick r:id="rId7" action="ppaction://hlinksldjump"/>
          </p:cNvPr>
          <p:cNvSpPr/>
          <p:nvPr/>
        </p:nvSpPr>
        <p:spPr>
          <a:xfrm>
            <a:off x="1044360" y="6643800"/>
            <a:ext cx="89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Главное меню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468360" y="1197000"/>
          <a:ext cx="8421480" cy="4852800"/>
        </p:xfrm>
        <a:graphic>
          <a:graphicData uri="http://schemas.openxmlformats.org/drawingml/2006/table">
            <a:tbl>
              <a:tblPr/>
              <a:tblGrid>
                <a:gridCol w="2519280"/>
                <a:gridCol w="2301840"/>
                <a:gridCol w="3600360"/>
              </a:tblGrid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Наименов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устрой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Информацион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ёмко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Опасны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воздейств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828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FD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1,4 М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Магнитные поля; высокая температу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833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HD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500 Г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Удары при установке и эксплуат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828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CD-R/RW дис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700 М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Царапины; загрязнене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831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DVD-R/RW дис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8,5 Г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Царапины; загрязнене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828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Flash-памя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8 Г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Неправильное отключ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</a:tbl>
          </a:graphicData>
        </a:graphic>
      </p:graphicFrame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Устройства долговременной памяти (ПЗУ)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1403280" y="638172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044360" y="6643800"/>
            <a:ext cx="89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Главное меню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400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Устройства ввода информации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Клавиатура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устройство ввода текстовой и числовой информ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Arial"/>
              </a:rPr>
              <a:t>Графический планшет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– устройство для рисования и ввода рукописного текс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Сканер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устройство для преобразования графической информации из аналоговой формы в цифрову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Цифровая каме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устройство для получения фото и видео непосредственно в цифровом формат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Микрофон + звуковая карт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устройство для перевода звука из аналоговой формы в цифрову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Мышь, трекбол, джойстик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манипулято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1403280" y="638172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203" name="">
            <a:hlinkClick r:id="rId13" action="ppaction://hlinksldjump"/>
          </p:cNvPr>
          <p:cNvSpPr/>
          <p:nvPr/>
        </p:nvSpPr>
        <p:spPr>
          <a:xfrm>
            <a:off x="1044360" y="6643800"/>
            <a:ext cx="89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Главное меню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Устройства вывода информации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Arial"/>
              </a:rPr>
              <a:t>Монитор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устройство для вывода текстовой, числовой и графической информ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Arial"/>
              </a:rPr>
              <a:t>Принтер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устройство для вывода на бумагу текстовой, числовой и графической информ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Arial"/>
              </a:rPr>
              <a:t>Акустические колонки и наушник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устройства для вывода зву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8"/>
          <a:stretch/>
        </p:blipFill>
        <p:spPr>
          <a:xfrm>
            <a:off x="1403280" y="638172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209" name="">
            <a:hlinkClick r:id="rId9" action="ppaction://hlinksldjump"/>
          </p:cNvPr>
          <p:cNvSpPr/>
          <p:nvPr/>
        </p:nvSpPr>
        <p:spPr>
          <a:xfrm>
            <a:off x="1044360" y="6643800"/>
            <a:ext cx="89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Главное меню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Сетевые устройства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Сетевой адаптер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устройство для передачи и приёма информации по се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Моде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устройство для передачи, модуляции и демодуляции информ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Витая пар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устройство для соединения компьютеров в Л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8"/>
          <a:stretch/>
        </p:blipFill>
        <p:spPr>
          <a:xfrm>
            <a:off x="1403280" y="638172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044360" y="6643800"/>
            <a:ext cx="89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Главное меню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Основная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структура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ПК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Системный бл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Монит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Клавиату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Мыш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Колонки, наушн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Принт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Скан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4788000" y="2852640"/>
            <a:ext cx="4176720" cy="383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4211640" y="2349360"/>
            <a:ext cx="4257720" cy="3629160"/>
            <a:chOff x="4211640" y="2349360"/>
            <a:chExt cx="4257720" cy="3629160"/>
          </a:xfrm>
        </p:grpSpPr>
        <p:sp>
          <p:nvSpPr>
            <p:cNvPr id="108" name="Gear"/>
            <p:cNvSpPr/>
            <p:nvPr/>
          </p:nvSpPr>
          <p:spPr>
            <a:xfrm>
              <a:off x="6572160" y="2349360"/>
              <a:ext cx="1897200" cy="16639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211640" y="3035160"/>
              <a:ext cx="2268360" cy="19893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682960" y="3768840"/>
              <a:ext cx="2521080" cy="22096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Структура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системного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блока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Процессо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Материнская пла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Оперативная память (ОЗУ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инчестер (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HDD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идеока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Звуковая ка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Блок пит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Дисковод 3,5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”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FDD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Дисковод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CD/DVD-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Сетевая ка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нутренний мод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</p:spTree>
  </p:cSld>
  <p:transition advTm="32000">
    <p:checker dir="horz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800"/>
                            </p:stCondLst>
                            <p:childTnLst>
                              <p:par>
                                <p:cTn id="70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300"/>
                            </p:stCondLst>
                            <p:childTnLst>
                              <p:par>
                                <p:cTn id="76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7400"/>
                            </p:stCondLst>
                            <p:childTnLst>
                              <p:par>
                                <p:cTn id="82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9700"/>
                            </p:stCondLst>
                            <p:childTnLst>
                              <p:par>
                                <p:cTn id="88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1600"/>
                            </p:stCondLst>
                            <p:childTnLst>
                              <p:par>
                                <p:cTn id="94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3800"/>
                            </p:stCondLst>
                            <p:childTnLst>
                              <p:par>
                                <p:cTn id="100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800"/>
                            </p:stCondLst>
                            <p:childTnLst>
                              <p:par>
                                <p:cTn id="106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8400"/>
                            </p:stCondLst>
                            <p:childTnLst>
                              <p:par>
                                <p:cTn id="112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1100"/>
                            </p:stCondLst>
                            <p:childTnLst>
                              <p:par>
                                <p:cTn id="118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3200"/>
                            </p:stCondLst>
                            <p:childTnLst>
                              <p:par>
                                <p:cTn id="124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Магистрально-модульное устройство ПК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</a:rPr>
              <a:t>Шина данных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шина для передачи данных между различными устройств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</a:rPr>
              <a:t>Шина адрес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шина для выбора устройства или ячейки памяти, куда пересылаются или откуда считываются данные по шине данны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</a:rPr>
              <a:t>Шина управления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шина для передачи сигналов, определяющих характер обмена информацией по магистрал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1116000" y="692280"/>
            <a:ext cx="6993000" cy="3162240"/>
          </a:xfrm>
          <a:prstGeom prst="rect">
            <a:avLst/>
          </a:prstGeom>
          <a:ln w="0">
            <a:noFill/>
          </a:ln>
        </p:spPr>
      </p:pic>
    </p:spTree>
  </p:cSld>
  <p:transition spd="slow" advTm="33000">
    <p:strips dir="rd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15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905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45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Процессор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ff"/>
                </a:solidFill>
                <a:latin typeface="Arial"/>
              </a:rPr>
              <a:t>Процессор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– устройство, выполняющее обработку данных и управляющее П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Основные характеристики процессор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00"/>
                </a:solidFill>
                <a:uFillTx/>
                <a:latin typeface="Arial"/>
              </a:rPr>
              <a:t>Тактовая частот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количество тактов в секунд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00"/>
                </a:solidFill>
                <a:uFillTx/>
                <a:latin typeface="Arial"/>
              </a:rPr>
              <a:t>Разрядност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количество двоичных разрядов, которые могут передаваться или обрабатываться процессором одновременн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00"/>
                </a:solidFill>
                <a:uFillTx/>
                <a:latin typeface="Arial"/>
              </a:rPr>
              <a:t>Производительност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скорость выполнения определённых операций в какой-либо программной сред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24000" y="4149720"/>
            <a:ext cx="8496000" cy="2104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</p:spTree>
  </p:cSld>
  <p:transition spd="slow" advTm="60000">
    <p:pull dir="d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440"/>
                            </p:stCondLst>
                            <p:childTnLst>
                              <p:par>
                                <p:cTn id="15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8540"/>
                            </p:stCondLst>
                            <p:childTnLst>
                              <p:par>
                                <p:cTn id="16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2740"/>
                            </p:stCondLst>
                            <p:childTnLst>
                              <p:par>
                                <p:cTn id="16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7740"/>
                            </p:stCondLst>
                            <p:childTnLst>
                              <p:par>
                                <p:cTn id="17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9040"/>
                            </p:stCondLst>
                            <p:childTnLst>
                              <p:par>
                                <p:cTn id="18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5280" y="-31644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Материнская(системная)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плата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18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Основным аппаратным компонентом компьютера является системная плата. На системной плате реализована магистраль обмена информацией, имеются разъёмы для установки процессора и оперативной памяти, а также слоты для установки контроллеров внешних устройст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116000" y="2637000"/>
            <a:ext cx="6551640" cy="40179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Устройства долговременной памяти (ПЗУ)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3" name=""/>
          <p:cNvGraphicFramePr/>
          <p:nvPr/>
        </p:nvGraphicFramePr>
        <p:xfrm>
          <a:off x="468360" y="1557360"/>
          <a:ext cx="8229600" cy="4172040"/>
        </p:xfrm>
        <a:graphic>
          <a:graphicData uri="http://schemas.openxmlformats.org/drawingml/2006/table">
            <a:tbl>
              <a:tblPr/>
              <a:tblGrid>
                <a:gridCol w="2301840"/>
                <a:gridCol w="2317680"/>
                <a:gridCol w="3610080"/>
              </a:tblGrid>
              <a:tr h="716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Наименование устрой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Информационная ёмко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Опасны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воздейств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FD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1,4 М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Магнитные поля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         </a:t>
                      </a: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высокая температу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HD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500 Г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Удары при установк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                 </a:t>
                      </a: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и эксплуат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CD-R/RW дис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700 М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Царапины; загрязнене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84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DVD-R/RW дис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8,5 Г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Царапины; загрязнене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81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Flash-памя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8 Г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Неправильное отключ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p:transition spd="slow" advTm="20000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-171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Устройства ввода информации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Клавиатура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устройство ввода текстовой и числовой информ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Arial"/>
              </a:rPr>
              <a:t>Графический планшет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– устройство для рисования и ввода рукописного текс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Сканер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устройство для преобразования графической информации из аналоговой формы в цифрову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Цифровая каме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устройство для получения фото и видео непосредственно в цифровом формат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Микрофон + звуковая карт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устройство для перевода звука из аналоговой формы в цифрову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Мышь, трекбол, джойстик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манипулято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</p:spTree>
  </p:cSld>
  <p:transition advTm="30000">
    <p:fad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3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3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3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3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9000"/>
                            </p:stCondLst>
                            <p:childTnLst>
                              <p:par>
                                <p:cTn id="21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3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3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3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3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3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5000"/>
                            </p:stCondLst>
                            <p:childTnLst>
                              <p:par>
                                <p:cTn id="22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3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3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8000"/>
                            </p:stCondLst>
                            <p:childTnLst>
                              <p:par>
                                <p:cTn id="23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30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3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3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11:03:31Z</dcterms:created>
  <dc:creator>Александр</dc:creator>
  <dc:description/>
  <dc:language>en-US</dc:language>
  <cp:lastModifiedBy>Александр</cp:lastModifiedBy>
  <dcterms:modified xsi:type="dcterms:W3CDTF">2007-10-18T02:45:40Z</dcterms:modified>
  <cp:revision>6</cp:revision>
  <dc:subject/>
  <dc:title>Архитектура компьютера</dc:title>
</cp:coreProperties>
</file>